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ct" ContentType="image/x-pict"/>
  <Override PartName="/ppt/media/image2.pct" ContentType="image/x-pict"/>
  <Override PartName="/ppt/media/image8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4.pct" ContentType="image/x-pict"/>
  <Override PartName="/ppt/media/image7.png" ContentType="image/png"/>
  <Override PartName="/ppt/media/image12.png" ContentType="image/png"/>
  <Override PartName="/ppt/media/image6.png" ContentType="image/pn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B9E0-3006-4504-BDFF-605A4FA86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3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s of Stud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BioMolec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Org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Popul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xygen has medium electronegativity so doesn’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ll electr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he way off hydrogen where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lorine woul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oxygen forms a polar covalent bo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has only a weak electronegativity so forms 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polar covalent 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cal molecu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s to some of its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s are bala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s to little attraction between diffe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ane molec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fore methane is a gas at room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E91C-0BFB-48C6-ABCC-70DA0D0B41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2A01-452F-488D-BF05-5063B4EC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EBED-0C02-4368-AD4D-517AC322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22F9-125A-4797-BA45-A8C56AF2E3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2C6A-FEBC-452C-9C4C-D37EC51D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5489-D701-401B-9E9D-D9C3B9E2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0A96-1A20-4DED-97DA-FCB4E323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A5CD-2EA4-4BE2-92B0-35086749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161B-2DBA-407A-AC82-796B03E8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13C8-C8F1-41FB-99E3-F3AB7C87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6FA8-8AEC-41BC-8278-AC45AF46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E66B-34F0-4031-AC66-127897F4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BDC0-DCA9-491D-B3C0-4439FCF9FBEE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Users/kfoglia/Kim&apos;s%20NEW%20WORK/Division%20Ave%20-%20Levittown/%20Campbell%20CDs/BIOLOGY6eCIPLchapters1-17/ImageLibrary1-17/02-ChemicalContextOfLife/02-14-IonicBonds.mov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Users/kfoglia/Kim&apos;s%20NEW%20WORK/Division%20Ave%20-%20Levittown/%20Campbell%20CDs/BIOLOGY6eCIPLchapters1-17/ImageLibrary1-17/02-ChemicalContextOfLife/02-12-CovalentBonds.mov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2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Chemical Context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62320" y="32767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705720" y="399960"/>
            <a:ext cx="23367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5486400" y="1676520"/>
            <a:ext cx="3429000" cy="3352680"/>
            <a:chOff x="5486400" y="1676520"/>
            <a:chExt cx="3429000" cy="3352680"/>
          </a:xfrm>
        </p:grpSpPr>
        <p:sp>
          <p:nvSpPr>
            <p:cNvPr id="140" name=""/>
            <p:cNvSpPr/>
            <p:nvPr/>
          </p:nvSpPr>
          <p:spPr>
            <a:xfrm>
              <a:off x="6934320" y="3048120"/>
              <a:ext cx="609480" cy="609480"/>
            </a:xfrm>
            <a:prstGeom prst="ellipse">
              <a:avLst/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53080" y="2666880"/>
              <a:ext cx="1371600" cy="13716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5880" y="2209680"/>
              <a:ext cx="2286000" cy="22860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86600" y="2514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86600" y="38862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4320" y="21337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5200" y="21337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15200" y="43434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34320" y="43434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30481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43600" y="33526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29600" y="30481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29600" y="33526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38680" y="1752480"/>
              <a:ext cx="3200400" cy="32004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86800" y="30481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86800" y="33526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34320" y="16765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16765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15200" y="4800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34320" y="4800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86400" y="30481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86400" y="33526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0948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onding properti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ffect of electr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chemical behavior of an atom depends on its electron arrangem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depends on the number of electrons in its outermost shell, the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valence sh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8840" y="5334120"/>
            <a:ext cx="2517120" cy="885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ow does this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tom behave?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onding properti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14480" y="3048120"/>
            <a:ext cx="3276000" cy="3352680"/>
            <a:chOff x="1014480" y="3048120"/>
            <a:chExt cx="3276000" cy="3352680"/>
          </a:xfrm>
        </p:grpSpPr>
        <p:sp>
          <p:nvSpPr>
            <p:cNvPr id="167" name=""/>
            <p:cNvSpPr/>
            <p:nvPr/>
          </p:nvSpPr>
          <p:spPr>
            <a:xfrm>
              <a:off x="2309400" y="4419720"/>
              <a:ext cx="609480" cy="609480"/>
            </a:xfrm>
            <a:prstGeom prst="ellipse">
              <a:avLst/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28520" y="4038480"/>
              <a:ext cx="1371240" cy="13716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71320" y="3581280"/>
              <a:ext cx="2285640" cy="22860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62040" y="38862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62040" y="52578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09400" y="35053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90640" y="35053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90640" y="57150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09400" y="57150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19040" y="44197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19040" y="472428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05040" y="44197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05040" y="472428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14480" y="3124080"/>
              <a:ext cx="3200040" cy="32004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62240" y="44197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62240" y="472428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400" y="30481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90640" y="30481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90640" y="61722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09400" y="61722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8382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ffect of electr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chemical behavior of an atom depends on number of electrons in its outermost sh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9640" y="6460200"/>
            <a:ext cx="3687480" cy="3988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How does this atom behave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4080" y="6460200"/>
            <a:ext cx="3687480" cy="3988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How does this atom behave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308560" y="3124080"/>
            <a:ext cx="3200400" cy="3276720"/>
            <a:chOff x="5308560" y="3124080"/>
            <a:chExt cx="3200400" cy="3276720"/>
          </a:xfrm>
        </p:grpSpPr>
        <p:sp>
          <p:nvSpPr>
            <p:cNvPr id="191" name=""/>
            <p:cNvSpPr/>
            <p:nvPr/>
          </p:nvSpPr>
          <p:spPr>
            <a:xfrm>
              <a:off x="6603840" y="4419720"/>
              <a:ext cx="609840" cy="609480"/>
            </a:xfrm>
            <a:prstGeom prst="ellipse">
              <a:avLst/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22960" y="4038480"/>
              <a:ext cx="1371600" cy="13716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65760" y="3581280"/>
              <a:ext cx="2286000" cy="22860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56480" y="38862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56480" y="52578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03840" y="35053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85080" y="35053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85080" y="57150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03840" y="57150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13480" y="44197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13480" y="47242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99480" y="44197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99480" y="47242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08560" y="3124080"/>
              <a:ext cx="3200400" cy="32004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85080" y="61722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03840" y="61722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ments &amp; their valence sh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0" t="0" r="0" b="4574"/>
          <a:stretch/>
        </p:blipFill>
        <p:spPr>
          <a:xfrm>
            <a:off x="152280" y="1371600"/>
            <a:ext cx="8915400" cy="4800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057400" y="1600200"/>
            <a:ext cx="5486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lements in the same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row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same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number of shel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ments &amp; their valence sh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4574"/>
          <a:stretch/>
        </p:blipFill>
        <p:spPr>
          <a:xfrm>
            <a:off x="152280" y="1371600"/>
            <a:ext cx="8915400" cy="4800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057400" y="1600200"/>
            <a:ext cx="5486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lements in the same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column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the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same valenc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&amp; similar chemical propert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86600" y="1523880"/>
            <a:ext cx="960480" cy="4572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523880"/>
            <a:ext cx="960480" cy="4572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3048120"/>
            <a:ext cx="960480" cy="30477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3048120"/>
            <a:ext cx="960480" cy="30477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36800" y="3048120"/>
            <a:ext cx="960480" cy="30477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ments &amp; their valence sh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0" t="0" r="0" b="4574"/>
          <a:stretch/>
        </p:blipFill>
        <p:spPr>
          <a:xfrm>
            <a:off x="152280" y="1371600"/>
            <a:ext cx="8915400" cy="4800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057400" y="1600200"/>
            <a:ext cx="5791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ving from left to right, each element has a sequential addition of electrons (and proton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cal reactiv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oms tend t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mplete a partially filled outer (valence) electron sh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mpty a partially filled outer (valence)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lectron sh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is tendency drives chemical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onic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0" t="2268" r="0" b="7044"/>
          <a:stretch/>
        </p:blipFill>
        <p:spPr>
          <a:xfrm>
            <a:off x="990720" y="1981080"/>
            <a:ext cx="70866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onic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ansfer of an electr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ms + &amp; - ion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ca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–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an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Weak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0" t="2268" r="0" b="7044"/>
          <a:stretch/>
        </p:blipFill>
        <p:spPr>
          <a:xfrm>
            <a:off x="1600200" y="4343400"/>
            <a:ext cx="6095880" cy="2279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029200" y="2895480"/>
            <a:ext cx="380376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6280" indent="-28908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alt = dissolves easily in wat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56960" y="456840"/>
            <a:ext cx="3589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et’s go to the video tape!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(play movie here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wo atoms need an electr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hare a pair of electr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Strong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oth atoms holding onto the electr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ms molecul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ampl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ater = takes energy to separ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0" r="0" b="82230"/>
          <a:stretch/>
        </p:blipFill>
        <p:spPr>
          <a:xfrm>
            <a:off x="1295280" y="3809880"/>
            <a:ext cx="7620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uble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wo atoms can share more than one pair of electr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uble bonds (2 pairs of electrons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iple bonds (3 pairs of electrons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Very strong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0" t="16661" r="0" b="64460"/>
          <a:stretch/>
        </p:blipFill>
        <p:spPr>
          <a:xfrm>
            <a:off x="676440" y="4070520"/>
            <a:ext cx="77911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are we studying chemistry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y has chemistry at its found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4980240" cy="3733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34120" y="3352680"/>
            <a:ext cx="373356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ultiple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1 atom can form covalent bonds with two or more other atom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orms larger molecu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.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arb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0" t="63213" r="0" b="2998"/>
          <a:stretch/>
        </p:blipFill>
        <p:spPr>
          <a:xfrm>
            <a:off x="685800" y="3633840"/>
            <a:ext cx="7772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ar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air of electrons not shared equally by 2 atom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ter = O  +  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9598" t="5666" r="11683" b="6494"/>
          <a:stretch/>
        </p:blipFill>
        <p:spPr>
          <a:xfrm>
            <a:off x="5715000" y="3886200"/>
            <a:ext cx="3124080" cy="23623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38080" y="3048120"/>
            <a:ext cx="4724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xygen has stronger “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ttracti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” for the shared electrons than hydroge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xygen has higher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electronegativ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ar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hydrogens in the water molecule form an angl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ter molecule is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pola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xygen end is –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gen end is +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eads to many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teresting propertie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f water…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9598" t="5666" r="11683" b="6494"/>
          <a:stretch/>
        </p:blipFill>
        <p:spPr>
          <a:xfrm>
            <a:off x="5715000" y="3886200"/>
            <a:ext cx="3124080" cy="23623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-2520" y="6216120"/>
            <a:ext cx="3589920" cy="64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et’s go to the video tape!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(play movie here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gen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ositive H atom 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1 water molecule is attracted to negative O in anoth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n occur wherever a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-OH exists in a larger molecu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Weak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27702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ductionist view of biolog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tter is made of atom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fe requires ~25 chemical eleme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omic structure determines behavior of an elemen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oms combine by chemical bonding to form molecul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eak chemical bonds play important roles in chemistry of lif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 molecule’s biological function is related to its shap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emical reactions make &amp; break chemical bon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erything is made of matt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atter is made of atom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oms are made of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ton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ss of 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   nucleu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utron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ss of 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   nucleu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lectron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ss &lt;&lt;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   orbi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fferent kinds of atoms = element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Bas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23367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World of Elemen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855200" cy="538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95480" y="177336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89720" y="225756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225756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225756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274320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274320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08040" y="274320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95480" y="274320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5480" y="321624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08040" y="321624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odels of atom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7583"/>
          <a:stretch/>
        </p:blipFill>
        <p:spPr>
          <a:xfrm>
            <a:off x="1295280" y="1447920"/>
            <a:ext cx="6483600" cy="243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86200" y="4191120"/>
            <a:ext cx="2413080" cy="2412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370680" y="627660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Atomic structure determines behavior</a:t>
            </a:r>
            <a:endParaRPr b="1" lang="en-US" sz="33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number of protons in an atom determines the elem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# of protons = atomic numb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is also tells you # of electr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atoms of an element have same chemical properti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 behave the sa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perties don’t chang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23367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Life requires ~25 chemical elements</a:t>
            </a:r>
            <a:endParaRPr b="1" lang="en-US" sz="33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bout 25 elements are essential for lif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Four elements make up 96% of living matter: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rbon (C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hydrogen (H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xygen (O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nitrogen (N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Four elements make up most of remaining 4%: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hosphorus (P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calcium (Ca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ulfur (S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potassium (K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1371600" y="380880"/>
            <a:ext cx="6424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otop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fferent number of neutrons (heavier)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are unstab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uclear reactions / dec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plit off neutrons &amp;/or prot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dioactivit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ical too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ical hazar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7660" r="0" b="5531"/>
          <a:stretch/>
        </p:blipFill>
        <p:spPr>
          <a:xfrm>
            <a:off x="5410080" y="3657600"/>
            <a:ext cx="32814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WD Interactive Web Development</cp:keywords>
  <dc:language>en-US</dc:language>
  <cp:lastModifiedBy>Kim Foglia</cp:lastModifiedBy>
  <cp:lastPrinted>2005-09-12T00:38:48Z</cp:lastPrinted>
  <dcterms:modified xsi:type="dcterms:W3CDTF">2005-09-12T00:39:01Z</dcterms:modified>
  <cp:revision>145</cp:revision>
  <dc:subject>Introduction to the Internet &amp; Web sites</dc:subject>
  <dc:title>Small Business Success on the Web</dc:title>
</cp:coreProperties>
</file>